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693-8015-4874-9BBD-A9FFFBF6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172C-0433-4EA6-A37B-CEE841DA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C38F-DE39-4661-8EB9-547B0A5DA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87F1-318C-47B9-ADB2-CBFA1F16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36E0-461C-4AEE-89F6-AF00E105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8314-206A-4A4F-9531-0BB1918B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D29E-0507-4541-BE12-662D55A6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2BB9-57FF-4A3F-B5C6-D68DBB51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F34A-EC5C-477B-BEF7-589812DD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44EA-4103-48C0-A695-D4CC3A05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0873-7CD7-4B64-8463-C752D0CD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BCFF-002A-46EF-AD88-29BA9FE4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FE142-C97D-4094-8249-95A7BB51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FE57-1913-4B28-8630-22D78D09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B43D-B792-43BA-8FA6-7F96E35C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B0B5-EB1C-4DD2-9CE7-7C5C23F9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5080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33240" y="134136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836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5080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33240" y="3814200"/>
            <a:ext cx="264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A38E-A599-4A6B-91B4-1AE9D9A62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5D42-4D5F-4D41-9531-08B37230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E193-6087-4445-9048-09A26519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AE7E-F1A2-415F-866D-3881BA40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CE23-43B2-4E42-BFA9-C24AF585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4700-C57E-4AF1-B430-D2F18807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5400" y="381420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A28C-0B98-4E5E-AC4F-D496E408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341360"/>
            <a:ext cx="40158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814200"/>
            <a:ext cx="8229600" cy="22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3F4A-42D0-4D4B-AD48-144C079F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6840" y="638172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dde8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3320" y="64533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1746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2160" y="98280"/>
            <a:ext cx="895644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0cb35"/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dde89a"/>
              </a:gs>
              <a:gs pos="100000">
                <a:srgbClr val="656a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75ba70"/>
              </a:gs>
              <a:gs pos="100000">
                <a:srgbClr val="329a2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92720" y="544464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E65E-1E01-4193-9AD8-B35CEEE32C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j0152694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21160" y="115920"/>
            <a:ext cx="3822840" cy="6765840"/>
          </a:xfrm>
          <a:custGeom>
            <a:avLst/>
            <a:gdLst/>
            <a:ahLst/>
            <a:rect l="l" t="t" r="r" b="b"/>
            <a:pathLst>
              <a:path w="2502" h="4352">
                <a:moveTo>
                  <a:pt x="882" y="17"/>
                </a:moveTo>
                <a:cubicBezTo>
                  <a:pt x="2077" y="287"/>
                  <a:pt x="2361" y="1554"/>
                  <a:pt x="2105" y="2560"/>
                </a:cubicBezTo>
                <a:cubicBezTo>
                  <a:pt x="1849" y="3566"/>
                  <a:pt x="905" y="3993"/>
                  <a:pt x="0" y="4344"/>
                </a:cubicBezTo>
                <a:lnTo>
                  <a:pt x="1242" y="4352"/>
                </a:lnTo>
                <a:cubicBezTo>
                  <a:pt x="1563" y="4096"/>
                  <a:pt x="2205" y="3360"/>
                  <a:pt x="2336" y="2584"/>
                </a:cubicBezTo>
                <a:cubicBezTo>
                  <a:pt x="2468" y="1808"/>
                  <a:pt x="2502" y="416"/>
                  <a:pt x="1186" y="0"/>
                </a:cubicBezTo>
                <a:lnTo>
                  <a:pt x="882" y="17"/>
                </a:lnTo>
                <a:close/>
              </a:path>
            </a:pathLst>
          </a:custGeom>
          <a:gradFill rotWithShape="0">
            <a:gsLst>
              <a:gs pos="0">
                <a:srgbClr val="e2fcd7"/>
              </a:gs>
              <a:gs pos="100000">
                <a:srgbClr val="99fa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755640" y="1197000"/>
            <a:ext cx="7849080" cy="4858560"/>
            <a:chOff x="755640" y="1197000"/>
            <a:chExt cx="7849080" cy="4858560"/>
          </a:xfrm>
        </p:grpSpPr>
        <p:grpSp>
          <p:nvGrpSpPr>
            <p:cNvPr id="51" name=""/>
            <p:cNvGrpSpPr/>
            <p:nvPr/>
          </p:nvGrpSpPr>
          <p:grpSpPr>
            <a:xfrm>
              <a:off x="985320" y="1197000"/>
              <a:ext cx="927720" cy="4833000"/>
              <a:chOff x="985320" y="1197000"/>
              <a:chExt cx="927720" cy="4833000"/>
            </a:xfrm>
          </p:grpSpPr>
          <p:sp>
            <p:nvSpPr>
              <p:cNvPr id="52" name=""/>
              <p:cNvSpPr/>
              <p:nvPr/>
            </p:nvSpPr>
            <p:spPr>
              <a:xfrm flipV="1">
                <a:off x="985320" y="120780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1284120" y="119700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1603800" y="122256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1913040" y="122220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755640" y="1428120"/>
              <a:ext cx="7849080" cy="4352040"/>
              <a:chOff x="755640" y="1428120"/>
              <a:chExt cx="7849080" cy="435204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755640" y="1428120"/>
                <a:ext cx="7827120" cy="871920"/>
                <a:chOff x="755640" y="1428120"/>
                <a:chExt cx="7827120" cy="87192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755640" y="142812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836280" y="17200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793800" y="200772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69320" y="23000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777240" y="2580840"/>
                <a:ext cx="7827480" cy="871920"/>
                <a:chOff x="777240" y="2580840"/>
                <a:chExt cx="7827480" cy="87192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777240" y="25808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57880" y="287280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15400" y="31604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90920" y="345276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755640" y="3755880"/>
                <a:ext cx="7827120" cy="871920"/>
                <a:chOff x="755640" y="3755880"/>
                <a:chExt cx="7827120" cy="8719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755640" y="37558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836280" y="404784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793800" y="433548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9320" y="4627800"/>
                  <a:ext cx="774648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777240" y="4908240"/>
                <a:ext cx="7827480" cy="871920"/>
                <a:chOff x="777240" y="4908240"/>
                <a:chExt cx="7827480" cy="8719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77240" y="49082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57880" y="520020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815400" y="548784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90920" y="5780160"/>
                  <a:ext cx="7746840" cy="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dde89a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" name=""/>
            <p:cNvGrpSpPr/>
            <p:nvPr/>
          </p:nvGrpSpPr>
          <p:grpSpPr>
            <a:xfrm>
              <a:off x="2240280" y="1222560"/>
              <a:ext cx="927720" cy="4833000"/>
              <a:chOff x="2240280" y="1222560"/>
              <a:chExt cx="927720" cy="4833000"/>
            </a:xfrm>
          </p:grpSpPr>
          <p:sp>
            <p:nvSpPr>
              <p:cNvPr id="78" name=""/>
              <p:cNvSpPr/>
              <p:nvPr/>
            </p:nvSpPr>
            <p:spPr>
              <a:xfrm flipV="1">
                <a:off x="224028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253908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285876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316800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3513240" y="1222560"/>
              <a:ext cx="927720" cy="4833000"/>
              <a:chOff x="3513240" y="1222560"/>
              <a:chExt cx="927720" cy="4833000"/>
            </a:xfrm>
          </p:grpSpPr>
          <p:sp>
            <p:nvSpPr>
              <p:cNvPr id="83" name=""/>
              <p:cNvSpPr/>
              <p:nvPr/>
            </p:nvSpPr>
            <p:spPr>
              <a:xfrm flipV="1">
                <a:off x="351324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381204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413172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444096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4785840" y="1222560"/>
              <a:ext cx="927720" cy="4833000"/>
              <a:chOff x="4785840" y="1222560"/>
              <a:chExt cx="927720" cy="4833000"/>
            </a:xfrm>
          </p:grpSpPr>
          <p:sp>
            <p:nvSpPr>
              <p:cNvPr id="88" name=""/>
              <p:cNvSpPr/>
              <p:nvPr/>
            </p:nvSpPr>
            <p:spPr>
              <a:xfrm flipV="1">
                <a:off x="478584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508464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540432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571356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6004080" y="1222560"/>
              <a:ext cx="927720" cy="4833000"/>
              <a:chOff x="6004080" y="1222560"/>
              <a:chExt cx="927720" cy="4833000"/>
            </a:xfrm>
          </p:grpSpPr>
          <p:sp>
            <p:nvSpPr>
              <p:cNvPr id="93" name=""/>
              <p:cNvSpPr/>
              <p:nvPr/>
            </p:nvSpPr>
            <p:spPr>
              <a:xfrm flipV="1">
                <a:off x="600408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V="1">
                <a:off x="630288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662256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693180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7250760" y="1222560"/>
              <a:ext cx="927720" cy="4833000"/>
              <a:chOff x="7250760" y="1222560"/>
              <a:chExt cx="927720" cy="4833000"/>
            </a:xfrm>
          </p:grpSpPr>
          <p:sp>
            <p:nvSpPr>
              <p:cNvPr id="98" name=""/>
              <p:cNvSpPr/>
              <p:nvPr/>
            </p:nvSpPr>
            <p:spPr>
              <a:xfrm flipV="1">
                <a:off x="7250760" y="12333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V="1">
                <a:off x="7549560" y="1222560"/>
                <a:ext cx="0" cy="480600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7869240" y="1248120"/>
                <a:ext cx="0" cy="480744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V="1">
                <a:off x="8178480" y="1247760"/>
                <a:ext cx="0" cy="4806360"/>
              </a:xfrm>
              <a:prstGeom prst="line">
                <a:avLst/>
              </a:prstGeom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dde89a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>
            <a:off x="1187280" y="5516640"/>
            <a:ext cx="743040" cy="743040"/>
          </a:xfrm>
          <a:prstGeom prst="rect">
            <a:avLst/>
          </a:prstGeom>
          <a:gradFill rotWithShape="0">
            <a:gsLst>
              <a:gs pos="0">
                <a:srgbClr val="99fa72"/>
              </a:gs>
              <a:gs pos="100000">
                <a:srgbClr val="467334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5680" y="76320"/>
            <a:ext cx="8977320" cy="500040"/>
          </a:xfrm>
          <a:custGeom>
            <a:avLst/>
            <a:gdLst/>
            <a:ahLst/>
            <a:rect l="l" t="t" r="r" b="b"/>
            <a:pathLst>
              <a:path w="5655" h="315">
                <a:moveTo>
                  <a:pt x="0" y="1"/>
                </a:moveTo>
                <a:lnTo>
                  <a:pt x="5546" y="0"/>
                </a:lnTo>
                <a:cubicBezTo>
                  <a:pt x="5652" y="0"/>
                  <a:pt x="5655" y="84"/>
                  <a:pt x="5655" y="84"/>
                </a:cubicBezTo>
                <a:lnTo>
                  <a:pt x="5649" y="315"/>
                </a:lnTo>
                <a:lnTo>
                  <a:pt x="1" y="314"/>
                </a:lnTo>
                <a:lnTo>
                  <a:pt x="0" y="1"/>
                </a:lnTo>
                <a:close/>
              </a:path>
            </a:pathLst>
          </a:custGeom>
          <a:gradFill rotWithShape="0">
            <a:gsLst>
              <a:gs pos="0">
                <a:srgbClr val="329a2a"/>
              </a:gs>
              <a:gs pos="100000">
                <a:srgbClr val="0e2d0c">
                  <a:alpha val="7725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5680" y="609480"/>
            <a:ext cx="8982000" cy="185760"/>
          </a:xfrm>
          <a:prstGeom prst="rect">
            <a:avLst/>
          </a:prstGeom>
          <a:gradFill rotWithShape="0">
            <a:gsLst>
              <a:gs pos="0">
                <a:srgbClr val="80cb35"/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dt" idx="4"/>
          </p:nvPr>
        </p:nvSpPr>
        <p:spPr>
          <a:xfrm>
            <a:off x="23148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ftr" idx="5"/>
          </p:nvPr>
        </p:nvSpPr>
        <p:spPr>
          <a:xfrm>
            <a:off x="2574720" y="6445080"/>
            <a:ext cx="29905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6"/>
          </p:nvPr>
        </p:nvSpPr>
        <p:spPr>
          <a:xfrm>
            <a:off x="5700240" y="644508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CCEA-6EDF-4703-8095-E0BD8B92EF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5516640"/>
            <a:ext cx="742680" cy="743040"/>
          </a:xfrm>
          <a:prstGeom prst="rect">
            <a:avLst/>
          </a:prstGeom>
          <a:gradFill rotWithShape="0">
            <a:gsLst>
              <a:gs pos="0">
                <a:srgbClr val="80cb35">
                  <a:alpha val="50196"/>
                </a:srgbClr>
              </a:gs>
              <a:gs pos="100000">
                <a:srgbClr val="3b5d1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4653000"/>
            <a:ext cx="741240" cy="743040"/>
          </a:xfrm>
          <a:prstGeom prst="rect">
            <a:avLst/>
          </a:prstGeom>
          <a:gradFill rotWithShape="0">
            <a:gsLst>
              <a:gs pos="0">
                <a:srgbClr val="329a2a">
                  <a:alpha val="50196"/>
                </a:srgbClr>
              </a:gs>
              <a:gs pos="100000">
                <a:srgbClr val="17461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title"/>
          </p:nvPr>
        </p:nvSpPr>
        <p:spPr>
          <a:xfrm>
            <a:off x="1619280" y="1699920"/>
            <a:ext cx="6019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85e25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85e25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50920" y="5460840"/>
            <a:ext cx="865080" cy="865440"/>
          </a:xfrm>
          <a:prstGeom prst="rect">
            <a:avLst/>
          </a:prstGeom>
          <a:ln w="0">
            <a:noFill/>
          </a:ln>
        </p:spPr>
      </p:pic>
      <p:pic>
        <p:nvPicPr>
          <p:cNvPr id="113" name="j0152694" descr=""/>
          <p:cNvPicPr/>
          <p:nvPr/>
        </p:nvPicPr>
        <p:blipFill>
          <a:blip r:embed="rId3"/>
          <a:stretch/>
        </p:blipFill>
        <p:spPr>
          <a:xfrm>
            <a:off x="7885080" y="1159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185e25"/>
                </a:solidFill>
                <a:latin typeface="Times New Roman"/>
              </a:rPr>
              <a:t>Click to edit the outline text format</a:t>
            </a:r>
            <a:endParaRPr b="0" i="1" lang="en-US" sz="1600" spc="-1" strike="noStrike">
              <a:solidFill>
                <a:srgbClr val="185e2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dde89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280" y="1699920"/>
            <a:ext cx="7777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85e25"/>
                </a:solidFill>
                <a:latin typeface="Times New Roman"/>
              </a:rPr>
              <a:t>ПОТОКИ ВЕЩЕСТВА И ЭНЕРГИИ В ЭКОСИСТЕМЕ</a:t>
            </a:r>
            <a:endParaRPr b="1" lang="en-US" sz="4400" spc="-1" strike="noStrike">
              <a:solidFill>
                <a:srgbClr val="185e25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4867920"/>
            <a:ext cx="5914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«Энергия не возникает из ничего и не превращается ни во что, но из одного вида может превратиться в другое и передаваться от одного тела другому». 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95280" y="220500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дите примеры разных пищевых цепей в лесном (озерном, степном) сообществах.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22100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ие процессы происходят при переходе с одного трофического уровня на другой?</a:t>
            </a:r>
            <a:endParaRPr b="0" lang="en-US" sz="32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37600"/>
            <a:ext cx="91440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УГОВОРОТ ВЕЩЕСТВ В ЭКОСИСТЕМ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63516" t="24519" r="12520" b="41248"/>
          <a:stretch/>
        </p:blipFill>
        <p:spPr>
          <a:xfrm>
            <a:off x="395280" y="1484280"/>
            <a:ext cx="4643280" cy="414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37600"/>
            <a:ext cx="91440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ВРАЩЕНИЕ ЭНЕРГИИ В ЭКОСИСТЕМ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Рисунок 1" descr="10.jpg"/>
          <p:cNvPicPr/>
          <p:nvPr/>
        </p:nvPicPr>
        <p:blipFill>
          <a:blip r:embed="rId1"/>
          <a:srcRect l="1978" t="0" r="1775" b="4429"/>
          <a:stretch/>
        </p:blipFill>
        <p:spPr>
          <a:xfrm>
            <a:off x="4356000" y="2997360"/>
            <a:ext cx="4579920" cy="34099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971640" y="1557360"/>
            <a:ext cx="63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ему общее число трофических уровней редко превышает три – четыре?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3213000"/>
            <a:ext cx="3960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тери энергии при переходе с одного трофического уровня на другой определяют количество этих уровней и соотношение численности хищников и жертв. Подсчитано, что на любой трофический уровень поступает лишь около 10% энергии предыдущего уровня.</a:t>
            </a:r>
            <a:endParaRPr b="0" lang="en-US" sz="20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237600"/>
            <a:ext cx="845964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ИРАМИДЫ ЧИСЛЕННОСТИ И БИОМАССЫ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26828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ирамида численности отражает численность отдельных организмов на каждом уровне.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29746" t="27618" r="41811" b="35423"/>
          <a:stretch/>
        </p:blipFill>
        <p:spPr>
          <a:xfrm>
            <a:off x="4932360" y="3290760"/>
            <a:ext cx="3992400" cy="32432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920" y="436572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ило экологической пирамиды: чем выше уровень, тем ниже общая биомасса и численность составляющих ее организмов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256536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ирамида биомасс – соотношение масс организмов разных трофических уровней. 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37600"/>
            <a:ext cx="89647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ЕВЕРНУТАЯ ПИРАМИД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24360" y="1989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ему в природе появляются перевернутые пирамиды численности?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60224" t="27618" r="14383" b="35423"/>
          <a:stretch/>
        </p:blipFill>
        <p:spPr>
          <a:xfrm>
            <a:off x="179280" y="1197000"/>
            <a:ext cx="2952720" cy="26859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50920" y="3860640"/>
            <a:ext cx="85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ирамида численности отражает только плотность организмов на каждом трофическом уровне, но не скорость самообразования организмов, поэтому пирамиды могут быть перевернутыми, т.е. плотность организмов в данный конкретный момент времени на низком трофическом уровне может быть ниже, чем плотность организмов на высоком уровне.</a:t>
            </a:r>
            <a:endParaRPr b="0" lang="en-US" sz="2400" spc="-1" strike="noStrike">
              <a:solidFill>
                <a:srgbClr val="dde89a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05:31:11Z</dcterms:created>
  <dc:creator>Admin</dc:creator>
  <dc:description/>
  <dc:language>en-US</dc:language>
  <cp:lastModifiedBy>Admin</cp:lastModifiedBy>
  <dcterms:modified xsi:type="dcterms:W3CDTF">2013-03-04T16:07:43Z</dcterms:modified>
  <cp:revision>12</cp:revision>
  <dc:subject>урок</dc:subject>
  <dc:title>Слайд 1</dc:title>
</cp:coreProperties>
</file>